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0D2-0DE8-4A64-99E2-7BE6ABD4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DA09-4178-42C1-BC89-0BF4A536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5BE7E-3655-41F3-BF23-5C836E2C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0384D-B265-4B18-B58C-FFF0718C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42A27-A3CD-4446-965F-F6EE95E2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CBD12-0F3E-449E-A5BA-D08AE08A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D0BF6-7FBE-43EF-8C98-7CC7E3F9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663BB-E7AF-4083-A9EA-B0A4F05D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A0E99-C4D4-4A27-9E1D-D3892E33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76156-4AC6-4F9C-A64E-98DA99E0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A2380-7D2F-4275-9305-696EE35A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7582A-0A34-45DB-9F52-E9A1CE0C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3BE-8D74-46CC-A1BC-0F92E7E9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2E465-542E-4470-8136-D68A7782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E8A76-C740-4DC1-9359-92A74250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6D54C-3FE8-4243-B121-F6A43893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A2AE8-0A93-4B2F-B7AE-CC7A5DAF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AA2EC-93DB-44F8-A51D-14BAAB31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C5176-DF4E-4F0C-99A5-7FACC63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7DE0A-404D-404B-A083-1F33E422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67170-13AE-4BA2-952F-965BFFD3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D46F9-2A28-4911-B896-0D7CD12B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5BBE3-1CA2-423E-A557-887276DD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C29-B3EA-4BB2-BF3A-068F0FD3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76440-FE09-4D5B-8104-ADD5A132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CDC41-C3BE-4A06-B296-50877F25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82430-B0DA-47A1-9C59-32F59B7D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810B3-CFD9-4F2D-9C07-D98A961F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9F5DA-8B0A-4CED-94CD-E6285C40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0D72B-1F5D-4137-BA00-E2790EB7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8AD14-C7EC-4EC8-B3ED-D77485E1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08D99-A607-4015-861D-7EABA681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05BAB-451A-43FF-BDDD-0833931A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D7D63-6B7D-49B2-9815-2C82F368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4C61-9F9D-46D9-8178-D6BE00D1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33CE1-65A0-4A1D-BB26-58F079DD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2E208-0D4A-41FA-975D-0F73E07C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1CA8F-67E9-40F6-8FBB-208FEEF3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6F631-D7E6-4FA6-80E0-A84A22AB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021D7-7284-4485-BA0E-F9DFBBEA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79941-1EC6-4C8F-8CF7-003F336E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B65F1-12DD-4FE3-8BB7-076E4B54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153EE-F5B8-4D68-AE77-393CEEDA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3A924-93B7-4166-8F12-A5840FEC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954DE-986F-444F-8726-41929E73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658D-85B4-409A-8740-C88ACB50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2448C-2DB7-45CE-90F3-52437703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9E77D-5D98-4E1D-821D-BCF043AC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F8C34-6409-44C0-A511-6528F438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EC04F-9BFD-4F35-9ED3-3A37F4CE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121FA-408F-4905-B725-A3FF0CBB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EC7FD-6E37-4D57-9728-51929163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663B8-7C3A-4A04-88F3-C187DD8A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9835B-0951-4F77-82D3-C13094F1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DA8FB2-6C9D-4FD4-8BDE-71B12FD8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6C279-B8A0-4918-88C4-F3BB70D6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5289-E6EE-4C5F-BE84-E082FDD5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2DE58-4C93-469B-A6DE-5E24C2E3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D2523-6CD5-4E0A-B694-23D7430E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01CD9-8942-4F88-8DC7-10FE5AC1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B4BB9-1DC2-4961-896B-94B8DE7C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76F74-8F0D-431D-BD08-1FB15E94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264B9-B2ED-4399-AC9E-067AC1BF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BD9F1-B7EF-44D8-BE0E-3D866892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4DF76-3B9D-4558-BEE2-9F429882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2603C-9676-4935-A0B5-FACF40B8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A9793-CFEF-4C1C-A676-FBF3013F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361D-3008-442F-B647-4FC034D3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83C4FA-DCAA-4F4F-BED3-90A9538B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7D14E-A934-4882-9891-EB007B4A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22C4A-0B72-433E-9D00-67987206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597AC-D2BD-4E56-A098-7AA49610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1B73A-6E89-4667-83CD-CA0E2196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2ACFA3-7E92-44DB-86F5-2976A5E8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E1DE9-F999-4114-AE86-3001397F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651A88-E23B-42D9-877F-152100BB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F494B-8E21-40B4-92FE-CB2AF454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15BB3E-9D69-4A67-A0FF-3FCDBC5E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8627-4944-4CC2-AD94-DE489973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E246E-D664-4958-90ED-32B97D72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00E385-9351-4B18-A89B-160F7C69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081DD-742C-4DD5-A223-DD44B7BB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71278-51C4-405B-A7EA-B2206348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88EC3-5573-4624-9839-C3517FE7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9B7EA-07CA-4E70-80A5-B32B4565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7FF0E-520F-4FBA-9ED5-9F27D106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638259-4FCE-45AA-ACFF-F1183AEE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C62DD-9193-4AB7-89E6-67C84FB8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57F465-D1F6-4636-A7C7-57694BA0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5986-B8D3-415F-A533-F38DCE83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508E46-65C2-457E-BFAE-11C6B5D1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732E48-09A9-4D8A-AFC1-87FC0D04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4D414E-0B8C-43F4-8E29-C37CCC2F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CD02B7-EA2D-4416-99D2-4109FF0F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F6A9A7-00D1-45CD-8B62-1E9B4047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97D705-47A2-4FBA-9685-63C06634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0EECE5-E735-488B-A556-ABAE09C4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AB54B-CB94-464B-85AB-EA282898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DCB17-487F-4ED0-9B1C-BE5E3E62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74880-432D-4B6C-B309-F2B7EB24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51F9-629B-4C41-88F1-4E0F070B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BCC64-26A4-4029-8862-7FA11878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27B6C8-15BD-488F-AAB5-BA6CFE63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06A19-C05A-48D4-BCE1-9424226F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C3F75-14E7-4A76-96A5-6801D123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31C3E3-FF7F-4C2F-BF62-F353B225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A3147-4798-4C49-8FDB-AF9EFA65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55D8C-3AFF-496E-A4AA-2BE34958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D98639-8D2D-46B0-9873-363E84B2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D5E91E-6351-45AB-9281-353516CC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A52F5-05F4-4D1D-BEF3-3E31254D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39E-D682-4D65-B753-85684D3E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3E51-7141-4DC3-9DC4-F08A4721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D7AF1-1DCD-4E8C-AC45-A2ED554B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B7794-093F-4B0A-95F2-306EFEAC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9426DA-CB7F-437A-9AD8-E4820D5F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D708E-FFF8-4AE1-A9EA-1BE693C5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2483E-B35E-4C5C-A800-7643B565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1AC404-0A4F-4BFA-8B00-5A0C50C0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C9AA27-7C82-4E31-9BD6-E27753DE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DB4D30-3673-4B30-BDC3-F207B354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262874-9E53-4C9B-A932-1B377ABF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BDF16A-E974-4BC4-AE78-9FA79BEB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E6D4-98C4-43F5-8E7B-AD9ACEE5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82788C-EAC6-4419-8EB7-6B334FB1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857A6C-DAFD-49B4-BFF5-478F392B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253CB0-5748-48AD-97F9-33447CBB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21076C-89AC-4AF8-917A-82FCDA2E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9C51D9-0021-4E75-A2CF-A30D9A55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B9917-9E40-47EE-9F1B-FE46C30B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4A6276-D84C-476D-ABBE-4E04D5C5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0E28-B56D-4F6A-A815-08CE02EB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ABDA-070F-4598-9267-0A5A5053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73EB-6CAA-4839-9078-A5FD450A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DBFFD-BF1E-4652-B48F-69047663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58B48-4D1E-4DFA-B179-38D3FD1F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E0163-6E0A-4284-B398-8BC50C85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A2C3E-CBA6-4DB4-B3B9-C92D07FF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83D92-85DA-49CE-90EB-ADA01BD8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9C8-1318-4675-8275-D94D4090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96143-DC51-4712-9B20-87598C35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8298-520D-42CE-8299-CA249546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83676-CF17-47E1-9B42-B95D8BF0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048BB-A323-4B2A-BDB2-3013A6FA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6CAF4-7C24-4FF3-A54B-0062B8BF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93166-799B-4398-AE55-31E15C48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3D1D0-C036-46C9-AFA8-2D6C50F5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10DA7-A551-4B9A-8840-7762347A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D7A98-4F84-4B9B-974A-6C39B706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3CD7-EE39-4497-906B-E2DAB375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65B-E76A-4FE7-966B-DC1C1125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9D066-AA5A-41E1-8BBC-549D25F0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360C8-3DB8-428C-8232-8326CC3D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F6E33-6F48-458E-BD9A-DEDE3515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4714C-3863-435D-A1D4-B87C4FA1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5DCA4-6306-4693-9EE8-1A2AF353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25767-D9DA-4BE1-8B6A-45A7E58C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CAC7-790F-4167-9024-3BA74F5D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54AA1-1BAE-4894-A6F5-0101E488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32458-E70D-4020-9937-F5FB5A56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854AE-E19A-400F-852D-389329A7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D51-4CDC-4F79-ACC3-8D2E3E53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A7F48-8BDF-4CF5-A1E2-1962C5FD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32663-90F5-4461-935A-F6F0D02E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E7BA1-8D6C-4A82-BEC2-9935C549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1673B-B1D3-4175-87CC-64B0311E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D5319-D994-4C9A-9651-F0D93322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686A8-DC0B-4259-9C15-6B817DE7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1D5F2-AB5B-4E38-AA79-3244CCEC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2FBDB-E0DE-46BA-AE04-4A65CD5D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307A2-CDB8-4CCE-B223-06F73F51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640EA-FA32-4B42-9818-1612E66E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22C-C204-4DA2-B600-B46425D4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B6324-312D-4986-A573-60AD1B5B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428BF-6A0F-4FA4-98FF-D2D0C1FA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FC5C2-2686-460B-A3F5-90ED2240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E3A0B-50E6-431F-AD2D-5F39D098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4A5A6-9E55-4184-8249-1782B7EA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1D953-78E9-42C9-91E8-9B9CA1AA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DBD91-5B9A-47E9-BE8E-3BD75BD7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DB42E-215F-4558-B3F4-FACC3CB9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A2AE5-EA72-4D64-AE74-EC2DCBD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6B308-0C09-49F1-AC35-A056A83C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DF5-5398-432E-8130-2C2CC1A5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3DF9C-B0EF-4659-960D-56A56811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E7261-C42B-4CD3-9FA4-0202CB89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642F9-3A2A-49AD-917A-444B61C9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E0B68-412E-44BF-8D80-38E34897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F6580-780F-4D4A-B4D0-00749F96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C45F0-31B1-4632-8393-2B89A859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79EC8-6B85-4ABD-BF37-2140893F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4F064-4CD4-47AC-9BE2-DD0D8987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B3925-15D8-4E10-8FBB-97E53EE8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2B7A3-6AD7-44E1-8447-6B1E8528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49A-DD5C-416E-95F0-D65B3B34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11045-029B-4DCB-B274-1B9938CF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5E1EB-2F96-4823-818A-E1FBCC09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9B448-8132-4780-B4E8-0F3A42C6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CC580-1CE0-4358-BD5A-7A74DA8E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5BCB5-C879-4184-908D-6DE40C8C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DBED2-CC61-4587-A82C-35239181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ABA56-32CD-4486-BF0B-47329731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0CAEF-E916-4527-AF49-44996F3D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334A1-38A9-4307-A483-E21D0311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E9811-A285-4641-A765-96F9FD87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EDF-F87B-4B29-819F-C6B621EA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0F0E7-07F3-4393-B6BE-BFB02726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C04B5-C5F9-4DBF-ADF5-AA956BFA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88293-B019-4922-BD7B-834757F3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BF38F-9455-4963-8E33-B1CECBEF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455CA-CBEB-413E-8F50-E1FB9C60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E476F-53B7-463C-AF95-EE9C3788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D1311-1C41-42F8-9976-05158BBB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7BDF7-8A86-451B-9CE8-92EFC529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86D36-BA28-42B4-9CFB-A63091EB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A7ACB-8AAD-40F8-B156-FAA14467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7EB4C-64ED-4260-9BC8-605DAA6BD63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D9CE8-40C0-4C74-8678-C19656DD994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0C79C-30E8-43E7-8F9B-5B63530FCD2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7C018-0920-4A3B-869E-9F3FD6EAD20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D5CAA-963E-4D4F-A94B-BC0A1B5AF04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8E863-1394-4428-BF58-56D52D97490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61206-3E12-412D-A321-9F8808B8129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745C8-52C7-49B4-99F9-AFBBB937C96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247DC-EAFB-456B-BAB9-76DD5AAAEDE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7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8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9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4DAA5-DF36-410C-8342-D138ECBD9DB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B967D-03A8-4474-B416-4EFE2062693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9C2FD-E964-4F86-9E5B-AF22095A49D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97A9A5-D341-4B23-B827-D1567DE9150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634F5-5461-4705-A2DC-BBD2CC5D4BF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D72DC-865E-4314-B970-BB1F662E706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83B5F-2DD2-40F2-882B-87584C533AE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8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2A787-75CB-4B5F-B1F3-4FA38F7417F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9B408-FDF9-415F-9E2E-12EDD2C9D0F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58560" y="1213920"/>
            <a:ext cx="5359320" cy="279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ff"/>
                </a:solidFill>
                <a:latin typeface="Trebuchet MS"/>
              </a:rPr>
              <a:t>ОРТОТИКА И ПРОТЕТИКА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4360" y="5084280"/>
            <a:ext cx="6107040" cy="11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Доц. др Катарина Парезановић- Илић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ОРТО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971280" y="2336400"/>
            <a:ext cx="7272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Оптозе су помагала која служе за замену изгубљене функције одређеног сегмента локомоторног апарата, спречавају настанак контрактура и деформације зглоба врше корекцију деформација кичменог стуб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ОРТО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1042920" y="227628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ртозе колен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ртоза за кичмени стуб: </a:t>
            </a:r>
            <a:r>
              <a:rPr b="0" lang="sr-Latn-RS" sz="2000" spc="-1" strike="noStrike">
                <a:solidFill>
                  <a:srgbClr val="ffffff"/>
                </a:solidFill>
                <a:latin typeface="Trebuchet MS"/>
              </a:rPr>
              <a:t>Millwauke</a:t>
            </a: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 мидер,</a:t>
            </a:r>
            <a:r>
              <a:rPr b="0" lang="sr-Latn-RS" sz="2000" spc="-1" strike="noStrike">
                <a:solidFill>
                  <a:srgbClr val="ffffff"/>
                </a:solidFill>
                <a:latin typeface="Trebuchet MS"/>
              </a:rPr>
              <a:t>TLSO </a:t>
            </a: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мидер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стала помагала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ртопедска обућ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магала за крет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магала у оквиру АДЖ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магала и техничке олакшице у кући и на радном месту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Ортозе и протез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899640" y="2336400"/>
            <a:ext cx="7704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римена протетских и ортотских средстава, представља супституцију изгубљених делова тела(протезе) или изгубљених функција (ортозе)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ротезе се користе након ампутације горњих и доњих екстремитет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отетичка рехабилитациј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971280" y="2336400"/>
            <a:ext cx="756108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ffffff"/>
                </a:solidFill>
                <a:uFillTx/>
                <a:latin typeface="Trebuchet MS"/>
              </a:rPr>
              <a:t>Услов је да пацијент хо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ротетичк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рехабилитациј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ј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ложен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интердисциплинарни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задатак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циљем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н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аксимално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огућ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физиолошк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конструкциј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активног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кретањ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ребала би да се спроведе до месец дана од ампутације.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00000" y="752040"/>
            <a:ext cx="7128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азе протетичке рехабилит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899640" y="2336400"/>
            <a:ext cx="65214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ОПЕРАТИВ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СТОПЕРАТИВ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ПРОТЕТИЧКА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ТИЧКА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ОПЕРАТИВНА</a:t>
            </a:r>
            <a:r>
              <a:rPr b="0" lang="hr-HR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899640" y="2336400"/>
            <a:ext cx="65214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ЦИЉЕВИ У ПРЕОПЕРАТИВНОЈ ФАЗИ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премит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олесник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родиц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ланиран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мпутациј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атећ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ехабилитацију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онтакт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цијент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–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изиотерапеут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државање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ондиције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пречавање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онтрактур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ОСТОПЕРАТИВНА 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826560" y="2336760"/>
            <a:ext cx="799308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редставља период након ампутације екстремитет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Циљеви у постоперативној фази су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rebuchet MS"/>
              </a:rPr>
              <a:t>Смањење отока патрљк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rebuchet MS"/>
              </a:rPr>
              <a:t>Превенцију инфекциј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rebuchet MS"/>
              </a:rPr>
              <a:t>Спречавање развоја контрактур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Третман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фантомског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ол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ко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стоји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сихолошк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дршка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олеснику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родици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ЕПРОТЕТИЧКА 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533520" y="2336400"/>
            <a:ext cx="799920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дставља период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д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вршетк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растањ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ан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до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мен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з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Циљеви у препротетчкој фази су: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прем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трљк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тичк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бавк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/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андажирањ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инезитерапиј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владавањ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амосталног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магалом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ретањ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стизање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езависности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ДЖ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ланирање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тичке</a:t>
            </a:r>
            <a:r>
              <a:rPr b="1" lang="hr-HR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бавк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ОТЕТИЧКА ФАЗ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11280" y="220500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амостално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влаче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влаче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з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отезо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авној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одлози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ко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епрек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з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из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тепениц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ед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стај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д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диз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Ход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родно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кружењу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Улазак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злазак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з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ут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Евентуалн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портск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ктивности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ставља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даљ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индивидуални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кинезитерапијским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третманом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БАНДАЖИРАЊЕ ПАТРЉК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826920" y="2336400"/>
            <a:ext cx="8066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андажир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патрљка је поступак којим обликујемо патрљак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проводи се еластичном чарапом или еластичним завојем, увек се оставља отвор 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 врху патрљка да уочимо евентуалну промену боје коже.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јјача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је компресија на врху патрљка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мање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едема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Брж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раст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ран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Тонизир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трофичн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мускулатур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викавање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атрљка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на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стални</a:t>
            </a:r>
            <a:r>
              <a:rPr b="0" lang="hr-HR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ритисак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Обликовање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6:56:18Z</dcterms:modified>
  <cp:revision>33</cp:revision>
  <dc:subject/>
  <dc:title>Balneoterapija</dc:title>
</cp:coreProperties>
</file>