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A73-F13F-43B2-B350-95A77B99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BDF-9B51-4A2A-BFE2-715C21FE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CE5-68ED-44C7-944E-CCB246B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D66-21D5-476C-BB42-98503E05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DE9-96D6-44FD-AC58-FAF1D2C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683-454C-46E1-BF22-D4E924B4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CA0-D14D-4AA2-A831-916DF764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560-42CA-41AF-BDD2-167D1AE4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8F8-92AB-498E-A083-596624C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F88-2578-45EC-9077-F019FF6D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539-6F53-49BE-AA30-3DDDE42A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939-19F4-4C5A-B97E-BEB3255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C4E2-C46B-4648-94A2-8D3C7BDDB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odloga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инези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-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ираторни систем такође ради под већим напором али је битно да се повећани дисајни капацитет повећава на рачун дубљег дисања а не на рачун броја респирација. Минутни респираторни волумен се повећава 5 до 10 пута код највећих оптер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5322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физичких вежби побољшава се и перисталтика дигестивног тракта, повећава се секреција желуца, убрзан је метаболизам, а посебно је изражено сагоревање масти и шећ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незитерапија условљава и промене на рефлексним релејним везама, како на нивоу спиналне етаже,тако и на вишем нивоу, а што доводи до стварања нових шема покрета и моторичке акти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валуација функција локомоторног а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238752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дужине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екстре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рење обима покрета у зглоб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ануелно тестирање мишићне сн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ДЖ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рапеутске вежбе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азична техника-врсте веж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7827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сврсисходне,систем.п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доприносе очув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остављању или замени оштећене ф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50920" y="1811160"/>
            <a:ext cx="424980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648320" y="412128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ив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помогну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 са отп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а оптере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времене мет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nkow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at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j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жбe у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успенз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inVogelbac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 Kenzy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457200" y="2762280"/>
            <a:ext cx="4038480" cy="22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ас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абилизација проксималн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државање дисталних свих зглоб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до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лагани, глатки покрети, без истез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- одржавање физиолошке дужин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одржавање обима покрета у зглобови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аферентација сегмента стимулацијом проприоцеп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тимулација трофике и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рипрема за активне ве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нтраиндик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свеже пов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млитаве одузет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запаљенски реумати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о потпомогнут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терапе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сп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моћ здравим екстремит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Принцип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аснити болеснику шта да ради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јачање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ужити минималну помоћ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преду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збегавати употребу др мишића        коорд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ратак одмор после сваког пок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веж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нци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етаљно показати све фазе вежб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дозирати теж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ацијент не сме бити 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бољшање коорди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повећање брз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аутома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општа издр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ктивне са оптерећењ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произвољно: експандер, мануел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одмерено: тегови, динаметар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ули а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5-10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тракција маx оптерећења 6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Де Лорме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финиција и појам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инези терапија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гр.кинеин-кретати се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ис-покрет) је област физикалне терапије, која се бави применом терапеутских  в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би ради  очувања,успостављања, развијања и замене функције локомотормог апа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о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81. гo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п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шe: "Пoкр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oм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л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њу з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тс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ств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стала медикаментозна средства не могу заменити покр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генс је покрет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Циљеви терапеутских веж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855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ржање или повећањ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има покрета у згло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аге миши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рдинациј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 покр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окалне и опште издрж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171144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нактивит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је нефизиолошко стање. Оно је условљено имобилизацијом, углавном код посттрауматских стања или код парализе, због првенствено немогућности активног кретања. Инактивитет има последице које се огледају првенствено на апарату за кретање, а затим на кардиоваскуларном, респираторном и процесима метаболиз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ровање и мишићна сна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инестетички импулси се код овог стања не формирају јер нема активности а то значи одсуство аферентације и фасилитације ЦНС па то условљава гашење енграма и губитак координације и аутоматизма при кретању. Долази до атрофије мишића. Код гипсане имобилизације мишићи далеко брже пропадај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oll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1970., 1,5 до 3,0% дневно или 10 до 20% недељно). Да би ојачали ослабљене мишиће потребно је дупло дуже време од настанка хипотроф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978280" y="3246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ра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повреда меких  ткива, прелома и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ртопед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деформације кичменог стуба (сколиозе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кифозе), стопала, поремећаји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коштавањ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стеотомија, артопластика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артроде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ериферне и централне одузет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миопатије, миозит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931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еуматоло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запаљенски, ванзглобни, дегенеративни у р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гинекологија и акушер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осле операција, превенција комплик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ипрема за безболан порођај, после порођа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пре и после оперативних захвата у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неурохирургији, васкуларној, грудној, </a:t>
            </a:r>
            <a:br>
              <a:rPr sz="2600"/>
            </a:b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општој хирургији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Контраиндикације за кинезитерапиј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560" y="1855800"/>
            <a:ext cx="3668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ока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о запа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крвар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бол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их контраиндикација н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84360" y="18558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фебр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висок 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инсуфицијенција ср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бубрега, јетре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тежа респиратор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90220101803"/>
          <p:cNvPicPr/>
          <p:nvPr/>
        </p:nvPicPr>
        <p:blipFill>
          <a:blip r:embed="rId1"/>
          <a:stretch/>
        </p:blipFill>
        <p:spPr>
          <a:xfrm>
            <a:off x="2195640" y="260280"/>
            <a:ext cx="4511520" cy="60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ј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8558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веђанин Линг (1776 - 1839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ви увео програм активних вежби у циљу лечења болесних стања локомоторног апарата (шведска гимнасти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основни битан елеменат кинезитерапије.Статичка и динамичка функција локомоторног апарата обезбеђује се мишићном контракцијом која је резултат сложеног процеса на разним нивоима организације моторне активности, а који започиње импулсом из моторних ћелија мождане коре.Импулси из мождане коре и супкортикалних формација доспевају кортикоспиналним (пирамидни систем и другим путевима кортикостриоретикуларни-екстрапирамидни систем) до кичмене мождине а затим  преко периферног моторног неурона да неуромишићне спојнице, а тиме и до мишићног влак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уро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мотор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ва мишићна влакна инервисана од стране једне моторне ћелије предњих рогова кичмене мождине; није анатомска него функционална једини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екстафузална влакна-покрет или стабилиз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моторн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неуро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трафузална влакна-постуралну припрему покре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стереотип покр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: аутоматизовани, лако изводљиви без већег утрошка енергије захваљујући “програмирању” екстрапирамидног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роз инактивитет се гас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ине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инезиолог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 наука која се бави проучавањем покрета. Она проучава биомеханику, као и функционалну анато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лу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брзине (лакат, подизање на пр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наге (зглобови ГЕ и 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равнотеже (атланто-окципитални, ку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ишићна 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тање раздражљивости мишића која тежи његовом скраћењу, без обзира да ли пости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врсте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метријс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зотони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подела мишића према функ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антагон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инерги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фикс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erinton-o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кон реципрочне инерв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а кинезитерапије је активни покрет. Сваки физички напор пр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 је одговарајућим физиолошким променама на респираторном кардиоваскуларном као и нервном систем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иру мишићи користе само 15% минутног срчаног волумена, а при оптерећењу то се повећава 4 до 5 пу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модинамски захтеви срца се повећавају и то се може надокнадити првенствено повећањем минутног волумена и убрзањем пул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изиолошке основе кинези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417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тренираних особа са здравим кардиоваскуларним системом ударни волумен се повећава, као и минутни волумен 2 до 3 пута. Такође се и пулс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повећати. Код максималних оптерећења потребно је у року од 5 до 10 минута да се пулс врати на стање пре оптерећ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8:01:41Z</dcterms:created>
  <dc:creator>Vojislav Ilic</dc:creator>
  <dc:description/>
  <dc:language>en-US</dc:language>
  <cp:lastModifiedBy>katarinaparezanovicilic@gmail.com</cp:lastModifiedBy>
  <dcterms:modified xsi:type="dcterms:W3CDTF">2020-09-26T16:55:46Z</dcterms:modified>
  <cp:revision>11</cp:revision>
  <dc:subject/>
  <dc:title>Slide 1</dc:title>
</cp:coreProperties>
</file>